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4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16.gif" ContentType="image/gif"/>
  <Override PartName="/ppt/media/image15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E37-3F58-4AC3-830A-1986AE74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618-01FF-4BD5-8147-B4C81BB1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4EF-A499-4D5F-BA0E-C8F1F91B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0FB-BECE-42BC-A28F-5CAFF03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3BA-F033-41DC-B6D7-5492E30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A44-1D73-4235-9FFA-E82C60AA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896-94FD-46C8-8B77-1DF88AFF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59A-6875-48AA-9E71-A3B24BA0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104-B7B0-46BB-95C5-C6C8D1A4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ACB-87E8-4CEE-BDB4-936CE980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3BD-6532-43DB-9C2A-C14F4604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DC6-8648-481B-B1DB-A7A2FC71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B89E-A1E9-4AF3-979D-B9956AB92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14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5.png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2800080" cy="186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8360" y="1557360"/>
            <a:ext cx="4967280" cy="26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离别的礼物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4221000"/>
            <a:ext cx="22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达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27120" y="2595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嘴里说拿口琴，拿来的却是毛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6930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爷爷总是把事情说得那么轻松。每当彼得提到离别，爷爷总说是他自己的主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37248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你爸爸要娶的是位好姑娘。”“您的心地太好了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720" y="478044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这个主意不坏，”爷爷温和地说：“我不需要这么大的毯子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3429000"/>
            <a:ext cx="649440" cy="2376360"/>
          </a:xfrm>
          <a:custGeom>
            <a:avLst/>
            <a:gdLst>
              <a:gd name="textAreaLeft" fmla="*/ 0 w 649440"/>
              <a:gd name="textAreaRight" fmla="*/ 234360 w 6494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73040" y="321300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楷体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71640" y="5877000"/>
            <a:ext cx="6048360" cy="81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451640" y="2565360"/>
            <a:ext cx="584280" cy="547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133272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可彼得想：“一个孤老头，离开自己的亲人，到孤老院里，和别的老人住在一起，能算是幸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彼得难过得真想哭，但他忍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半毯子足够送走一个老头，省下一半，留着以后会用得着的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205000"/>
            <a:ext cx="583236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心理活动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2200" y="148428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39120" y="5054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Arial"/>
                <a:ea typeface="幼圆"/>
              </a:rPr>
              <a:t>买毛毯给爷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451960"/>
            <a:ext cx="8064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Arial"/>
                <a:ea typeface="幼圆"/>
              </a:rPr>
              <a:t>爸爸清了清嗓子，吞吞吐吐地说道：“我，我想给爸爸买一床最好的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03200" y="4742640"/>
            <a:ext cx="70138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Arial"/>
                <a:ea typeface="幼圆"/>
              </a:rPr>
              <a:t>爸爸像往常一样，逼得没法只好发火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2411280" cy="17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64000" y="3645000"/>
            <a:ext cx="2878200" cy="647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95640" y="3502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华文琥珀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71640" y="351360"/>
            <a:ext cx="6369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那女人走过来娇声娇气地对爷爷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24800"/>
            <a:ext cx="7993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那女人好象被钉在那里，两眼没有离开过那床毯子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3500280"/>
            <a:ext cx="5041800" cy="100836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神态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252360" y="4581360"/>
            <a:ext cx="2293920" cy="266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2728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32000" y="451800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那女人马上跟进去，喋喋不休地说那毯子太昂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 rot="5400000">
            <a:off x="6909480" y="2172600"/>
            <a:ext cx="3889440" cy="1938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真情告白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98480"/>
            <a:ext cx="763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爷爷／奶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那次是我错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爷爷／奶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您辛苦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爷爷／奶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我想对你说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1944720" cy="1819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9483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家”是一个充满温情的地方，它有时在竹篱茅舍，有时在高屋华堂，有时在无家可归的人群中，有时在温柔善良的眼神里。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有一种人，被岁月染满风霜、腰肢不再挺拔，即便远在海角天涯，也舍不下对你的牵挂，为了你能更好地生活着，他们愿意献出自己的一切，包括生命。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有一种情，用任何语言都无法描述，它平凡而真切、细小而伟大，润物无声地渗在骨子里，它没有固定的表达方式，有时执著到让人无法理解。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有一种爱，它与生俱来，近乎本能，最无求回报之心。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这些人，这份情，这种爱，穿越了时空，模糊了血缘，但永远在我们的心中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59280" y="404640"/>
            <a:ext cx="316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3640" y="981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最后写一家三口人在哭声中戛然而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用省略号结尾。但爸爸最终有没有和那个女人结婚？爷爷被送走了没有？小彼得过得好吗？这些小说中并没有交代，是作者故意留下的“空白”。 请大家大胆展开想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后在继续读文章的基础上给小说续写个结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要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1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想象合理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抓住人物的性格特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个性化的人物描写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35280" y="326880"/>
            <a:ext cx="201636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加点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171440"/>
            <a:ext cx="604872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毛毯         晌午         嫁娶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昂贵         愣住          接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1628640"/>
            <a:ext cx="41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7000" y="306864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0640" y="306864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7000" y="16002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7720" y="16002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19360" y="30402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429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释下列成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049640"/>
            <a:ext cx="259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碍手碍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娇声娇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吞吞吐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40734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妨碍别人做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797360"/>
            <a:ext cx="60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说话或声音娇滴滴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55306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有顾虑，有话不敢直说或说话含糊不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62064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49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47628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q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06064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060640"/>
            <a:ext cx="132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213372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34894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、仔细揣摩文中人物的心理，养成尊重和关心老人的良好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2217600"/>
            <a:ext cx="59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学习通过人物的语言、心理描写等刻画来人物形象的写法。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19700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79640" y="1418400"/>
            <a:ext cx="6013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课题中的礼物是什么？作者围绕这礼物写了哪几个人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114560"/>
            <a:ext cx="2520720" cy="202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3592440"/>
            <a:ext cx="66243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彼得的爸爸为什么把彼得的爷爷送进孤老院？他又为什么要送这礼物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8000" y="2451240"/>
            <a:ext cx="1371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华文琥珀"/>
                <a:hlinkClick r:id="rId2" action="ppaction://hlinksldjump"/>
              </a:rPr>
              <a:t>爷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962520"/>
            <a:ext cx="1371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华文琥珀"/>
                <a:hlinkClick r:id="rId3" action="ppaction://hlinksldjump"/>
              </a:rPr>
              <a:t>爸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451240"/>
            <a:ext cx="1371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华文琥珀"/>
                <a:hlinkClick r:id="rId4" action="ppaction://hlinksldjump"/>
              </a:rPr>
              <a:t>女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95720" y="3962520"/>
            <a:ext cx="1447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华文琥珀"/>
                <a:hlinkClick r:id="rId5" action="ppaction://hlinksldjump"/>
              </a:rPr>
              <a:t>彼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19280" y="619200"/>
            <a:ext cx="482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揣摩人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pic>
        <p:nvPicPr>
          <p:cNvPr id="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79280" y="5300640"/>
            <a:ext cx="8675640" cy="129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30520" y="1183320"/>
            <a:ext cx="33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新魏"/>
              </a:rPr>
              <a:t>爱家，舍不得离开家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86000" y="2665800"/>
            <a:ext cx="58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新魏"/>
              </a:rPr>
              <a:t>善解人意、委曲求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02400" y="40345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  <a:ea typeface="华文新魏"/>
              </a:rPr>
              <a:t>宽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91240" y="2955960"/>
            <a:ext cx="237348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229360"/>
            <a:ext cx="371520" cy="390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479400" y="126900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爱爷爷，孝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懂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勇敢机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2" action="ppaction://hlinksldjump"/>
          </p:cNvPr>
          <p:cNvPicPr/>
          <p:nvPr/>
        </p:nvPicPr>
        <p:blipFill>
          <a:blip r:embed="rId3"/>
          <a:srcRect l="26820" t="26820" r="0" b="0"/>
          <a:stretch/>
        </p:blipFill>
        <p:spPr>
          <a:xfrm>
            <a:off x="493560" y="3573360"/>
            <a:ext cx="2133720" cy="28386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20560" y="1707840"/>
            <a:ext cx="2280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爱家人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孝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懦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内心是善良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66688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48360" y="4437000"/>
            <a:ext cx="3095640" cy="3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706720" y="1123920"/>
            <a:ext cx="851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做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自私、虚伪、吝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038320" cy="3887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92360" y="1844640"/>
            <a:ext cx="2952720" cy="1368360"/>
          </a:xfrm>
          <a:prstGeom prst="wedgeEllipseCallout">
            <a:avLst>
              <a:gd name="adj1" fmla="val -45268"/>
              <a:gd name="adj2" fmla="val 1041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明天我就不去送您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1028520" cy="1124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